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8D0-C2CE-496E-8E12-7413EB07B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734F-0DE1-4ECF-95AA-55CE0AAFA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1151-C2FE-4521-A712-1FC46651DA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74B-98B5-4ECC-9ACA-183D60B3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03A-8D00-439A-A133-21C7DFB1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87C-2E46-4E36-8C9B-8ADA214B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884-4CC9-4F01-AB35-3FE91B73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C36E-1018-4A50-AB8F-42706FF2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940-7063-4382-BC1A-0281882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5D7-89F9-4BF3-9C69-4D726AD1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D185-3261-4552-9452-396D44DD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3CB5-C18D-4947-AA94-5809624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42B9-923A-4477-B4F5-B6E0DFDC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5765-E88A-44EB-9B9A-B58A310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B36-A272-4F35-95B0-4A6FE090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19CB-3C2A-4D2C-8DAC-1AA15FB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2A3-B6E8-4BBC-84BF-D9991EF3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05CA-22FB-4A08-8E11-4C5CDDA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ACB1-3343-432F-AB9A-89EBE94B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7A4A-B4E7-4430-906E-64EAD708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5DF-9714-469C-AF13-EAC92C15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726-5F07-4846-B193-79BE2E4C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5CF-E3A0-496C-BA27-741D30CE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404-A485-48B1-9710-1731205A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089-9742-49FF-8E9E-996EFC9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DC3-6002-4F66-842C-F839FEC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7D8-C8E2-4302-8D32-7C37A7B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CD47-0A33-4DEA-B8ED-776CB7DB9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490-08DF-45AD-A4BA-3362AA28F1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Evolu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nds of Natural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Drif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populations, individuals that carry a particular allele may leave more descendants than other individuals, just by chan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ime, a series of chance occurrences of this type can cause an allele to become common in a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 fur bu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peci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56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roductive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The evolutionary process by which new biological species ar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Content Placeholder 3" descr="eevee.jpg"/>
          <p:cNvPicPr/>
          <p:nvPr/>
        </p:nvPicPr>
        <p:blipFill>
          <a:blip r:embed="rId1"/>
          <a:stretch/>
        </p:blipFill>
        <p:spPr>
          <a:xfrm>
            <a:off x="4724280" y="2665440"/>
            <a:ext cx="4165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ypes of Isol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havioral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wo populations capable of interbreeding but have differences in courtship rituals or other types of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ographic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opulations are separated by geographic barriers such as rivers, mountains, or bodies of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oral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Species reproduce at different times of th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alapagos Finch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724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tion in the Galapagos Finches occurred by founding of new populations, geographic isolation, gene pool changes, reproductive isolation, and ecological compet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Content Placeholder 3" descr="darwin_finches.jpg"/>
          <p:cNvPicPr/>
          <p:nvPr/>
        </p:nvPicPr>
        <p:blipFill>
          <a:blip r:embed="rId1"/>
          <a:stretch/>
        </p:blipFill>
        <p:spPr>
          <a:xfrm>
            <a:off x="4681440" y="1828800"/>
            <a:ext cx="4462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o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wo species influence each others ev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s and flow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s and the fish that clean their teet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mo and his annenome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cro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anges in allele frequencies that occur over time within a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the very small chan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acro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that occurs at or above the level of spe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g cha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2952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Genetic changes in a population through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Occurs through 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2728800" y="2911320"/>
            <a:ext cx="3625920" cy="734400"/>
            <a:chOff x="2728800" y="2911320"/>
            <a:chExt cx="3625920" cy="734400"/>
          </a:xfrm>
        </p:grpSpPr>
        <p:sp>
          <p:nvSpPr>
            <p:cNvPr id="168" name="Text Box 4"/>
            <p:cNvSpPr/>
            <p:nvPr/>
          </p:nvSpPr>
          <p:spPr>
            <a:xfrm>
              <a:off x="2728800" y="3186000"/>
              <a:ext cx="31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verproductio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9" name="Group 13"/>
            <p:cNvGrpSpPr/>
            <p:nvPr/>
          </p:nvGrpSpPr>
          <p:grpSpPr>
            <a:xfrm>
              <a:off x="5897520" y="2911320"/>
              <a:ext cx="457200" cy="595440"/>
              <a:chOff x="5897520" y="2911320"/>
              <a:chExt cx="457200" cy="595440"/>
            </a:xfrm>
          </p:grpSpPr>
          <p:sp>
            <p:nvSpPr>
              <p:cNvPr id="170" name="Line 11"/>
              <p:cNvSpPr/>
              <p:nvPr/>
            </p:nvSpPr>
            <p:spPr>
              <a:xfrm>
                <a:off x="6354720" y="2911320"/>
                <a:ext cx="0" cy="59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H="1">
                <a:off x="5897520" y="348948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72" name="Group 24"/>
          <p:cNvGrpSpPr/>
          <p:nvPr/>
        </p:nvGrpSpPr>
        <p:grpSpPr>
          <a:xfrm>
            <a:off x="2728800" y="3489480"/>
            <a:ext cx="3625920" cy="1069200"/>
            <a:chOff x="2728800" y="3489480"/>
            <a:chExt cx="3625920" cy="1069200"/>
          </a:xfrm>
        </p:grpSpPr>
        <p:sp>
          <p:nvSpPr>
            <p:cNvPr id="173" name="Text Box 5"/>
            <p:cNvSpPr/>
            <p:nvPr/>
          </p:nvSpPr>
          <p:spPr>
            <a:xfrm>
              <a:off x="2728800" y="4098960"/>
              <a:ext cx="31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Variatio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4" name="Group 14"/>
            <p:cNvGrpSpPr/>
            <p:nvPr/>
          </p:nvGrpSpPr>
          <p:grpSpPr>
            <a:xfrm>
              <a:off x="5897520" y="3489480"/>
              <a:ext cx="457200" cy="945720"/>
              <a:chOff x="5897520" y="3489480"/>
              <a:chExt cx="457200" cy="945720"/>
            </a:xfrm>
          </p:grpSpPr>
          <p:sp>
            <p:nvSpPr>
              <p:cNvPr id="175" name="Line 15"/>
              <p:cNvSpPr/>
              <p:nvPr/>
            </p:nvSpPr>
            <p:spPr>
              <a:xfrm>
                <a:off x="6354720" y="3489480"/>
                <a:ext cx="0" cy="945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Line 16"/>
              <p:cNvSpPr/>
              <p:nvPr/>
            </p:nvSpPr>
            <p:spPr>
              <a:xfrm flipH="1">
                <a:off x="5897520" y="440784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77" name="Group 25"/>
          <p:cNvGrpSpPr/>
          <p:nvPr/>
        </p:nvGrpSpPr>
        <p:grpSpPr>
          <a:xfrm>
            <a:off x="1676520" y="4419720"/>
            <a:ext cx="4678200" cy="1070640"/>
            <a:chOff x="1676520" y="4419720"/>
            <a:chExt cx="4678200" cy="1070640"/>
          </a:xfrm>
        </p:grpSpPr>
        <p:sp>
          <p:nvSpPr>
            <p:cNvPr id="178" name="Text Box 6"/>
            <p:cNvSpPr/>
            <p:nvPr/>
          </p:nvSpPr>
          <p:spPr>
            <a:xfrm>
              <a:off x="1676520" y="5030640"/>
              <a:ext cx="42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truggle for existenc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5897520" y="4419720"/>
              <a:ext cx="457200" cy="915480"/>
              <a:chOff x="5897520" y="4419720"/>
              <a:chExt cx="457200" cy="915480"/>
            </a:xfrm>
          </p:grpSpPr>
          <p:sp>
            <p:nvSpPr>
              <p:cNvPr id="180" name="Line 18"/>
              <p:cNvSpPr/>
              <p:nvPr/>
            </p:nvSpPr>
            <p:spPr>
              <a:xfrm>
                <a:off x="6354720" y="4419720"/>
                <a:ext cx="0" cy="91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Line 19"/>
              <p:cNvSpPr/>
              <p:nvPr/>
            </p:nvSpPr>
            <p:spPr>
              <a:xfrm flipH="1">
                <a:off x="5897520" y="530856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82" name="Group 26"/>
          <p:cNvGrpSpPr/>
          <p:nvPr/>
        </p:nvGrpSpPr>
        <p:grpSpPr>
          <a:xfrm>
            <a:off x="0" y="5319720"/>
            <a:ext cx="6354720" cy="1127880"/>
            <a:chOff x="0" y="5319720"/>
            <a:chExt cx="6354720" cy="1127880"/>
          </a:xfrm>
        </p:grpSpPr>
        <p:sp>
          <p:nvSpPr>
            <p:cNvPr id="183" name="Text Box 7"/>
            <p:cNvSpPr/>
            <p:nvPr/>
          </p:nvSpPr>
          <p:spPr>
            <a:xfrm>
              <a:off x="0" y="5987880"/>
              <a:ext cx="59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ifferential reproductive succes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5897520" y="5319720"/>
              <a:ext cx="457200" cy="1007640"/>
              <a:chOff x="5897520" y="5319720"/>
              <a:chExt cx="457200" cy="100764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6354720" y="5319720"/>
                <a:ext cx="0" cy="1007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 flipH="1">
                <a:off x="5897520" y="629820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urces of Vari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in sources are mutations and gene shuff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ta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hanges in DNA sequence.  These may or may not affect an organisms fit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 shuff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is the random shuffling of genes caused by sexual reprodu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atural Selection on Single-Gene Trai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tions on single-gene traits can lead to changes in allele frequencies and thus to ev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change is beneficial to the organism, the change may cause the original form to fade out and the newer organisms to be more fit and take o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rectional Sele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ional Sel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volution causes an increase in the number of individuals with the trait at one end of the cur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7" descr="C21_Directional_1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bilizing Sele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in the center of the curve and more fit and thus the curve narr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C21_Stabilizing_1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sruptive Sele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at the ends of the curve are more fit than the ones in the middle causing two curves to form and possible new species to for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uld happen if the spiny cacti mutated to now have vines that kill spineless cacti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6" descr="C21_Disruptive_1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1:41:40Z</dcterms:created>
  <dc:creator> </dc:creator>
  <dc:description/>
  <dc:language>en-US</dc:language>
  <cp:lastModifiedBy>ramalhod</cp:lastModifiedBy>
  <dcterms:modified xsi:type="dcterms:W3CDTF">2012-10-02T11:32:43Z</dcterms:modified>
  <cp:revision>20</cp:revision>
  <dc:subject/>
  <dc:title>Evolution</dc:title>
</cp:coreProperties>
</file>